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6C55-D583-42BE-BC79-02833EC7A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E0FD-E7BC-43FF-A3C6-C3944AF0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F851-818D-444E-800B-5B53016DA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A225-CB18-40A2-AD3C-555AC98F1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ED79-2789-4239-A5FD-8563D44C0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2C20-DD5C-41DA-AE3E-6AA4479E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AD3E-E633-4B4D-AD05-8CDA3154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23AC-0C88-4886-91AF-EC690DAF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BB73-CC7F-4365-AD89-22D47A15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4964-8E85-4C43-9C6E-DF9D0D10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A55F-49A8-41D0-B016-424B78F2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E3D4-5B46-42C4-97C2-3A0FDC58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DA54-41D8-42C5-9EF0-6E942ECF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10CF-7137-40AB-BDCD-080FD8D4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573F-879B-439F-9D48-FE000C4C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4615-7623-463E-B37A-CA3FA7273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9CC9-1C58-450C-AD29-1A01D4D2F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CB90-61F4-4873-BBA9-3796BF6D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5A05-3A4E-46C3-A1F9-534BE3B4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EE05-78C7-4683-A8CC-3B077B04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C277-4F73-4E47-A07B-C3B126A9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BC6C-56EA-4805-8632-6C8AA4A1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EDBE-C6B3-480B-B216-887405C3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B905-48FE-4E14-8CF9-56176575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D281-A977-4922-9EFE-E1429797D83E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D4E0-9A52-4D8F-A790-17640A802260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95280" y="692280"/>
            <a:ext cx="83534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kills and Techn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ADMIN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Lesson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23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rd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November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9280" y="4381560"/>
            <a:ext cx="3240360" cy="2336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73280" cy="3259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443640" y="2781360"/>
            <a:ext cx="2546280" cy="3951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443640" y="189000"/>
            <a:ext cx="255600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NAB Part 3!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You will complete NAB Part 2 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MONDAY 30</a:t>
            </a:r>
            <a:r>
              <a:rPr b="0" lang="en-US" sz="4400" spc="-1" strike="noStrike" u="sng" baseline="30000">
                <a:solidFill>
                  <a:srgbClr val="ff0000"/>
                </a:solidFill>
                <a:uFillTx/>
                <a:latin typeface="Comic Sans MS"/>
              </a:rPr>
              <a:t>th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 NOVEMBER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eriod Starter…….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Why are observation schedules appropriate to use in badmint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Learning Outcom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y the end of this lesson you shoul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Be able to describe all aspects of a model perform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Be able to descri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ll aspects 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tages of learn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24360" y="4365720"/>
            <a:ext cx="320364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Model Performe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Using pages 7-9 of your booklet and your knowledge gained from class write down (using sentences!) all you know about a model perform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084720" y="4581360"/>
            <a:ext cx="284508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Stages of Learn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Using pages 14&amp;15 of your booklet and your knowledge gained from class write down (using sentences!) all you know about stag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f learn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300720" y="3645000"/>
            <a:ext cx="262728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Homework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tudy all aspects of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Model Performer 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tage of lear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n preparation for the NAB Part 2 which you will complete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UNDER EXAM CONDI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n Monday 30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November 200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5:00:34Z</dcterms:created>
  <dc:creator>hamiltonp</dc:creator>
  <dc:description/>
  <dc:language>en-US</dc:language>
  <cp:lastModifiedBy>Laura Kirkpatrick</cp:lastModifiedBy>
  <dcterms:modified xsi:type="dcterms:W3CDTF">2009-11-23T08:44:01Z</dcterms:modified>
  <cp:revision>51</cp:revision>
  <dc:subject/>
  <dc:title>Slide 1</dc:title>
</cp:coreProperties>
</file>